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D7A-5E1D-4759-AD36-7BC52C0D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549-2CC4-4AD0-AD69-DEC2A0D2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79A-6CCB-44E2-99A2-BAA58753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14F-A053-4C0C-9F2E-DEFA0E31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390-A920-41CD-A011-B42025A9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7998-3B28-43E4-A288-6C79FBE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BC6-E2B6-40B7-A0AC-3DC275E0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B06C-9432-45A5-987B-7689B9EA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F6AA-1398-4129-9D55-C562E9AE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2192-9D96-4028-B7EC-C2262C24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02E-7FE5-48E0-B8BC-8FF53DA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ABD-C13B-4CED-AA80-6A98F7E4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C0E-B649-43C5-82A8-BD63E2EB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239-039E-4F8C-97E5-D298DE3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629-4D76-4F4D-8427-7516695D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1EE3-570D-4386-B779-E6D5F105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38E-A228-44C7-AB0B-16DAB1B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CE9-8FE3-45C9-BAFA-211C2A65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978-AA3E-4593-8FD4-C5D47C6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028-3169-4B04-8BBE-171826CC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EE1-46BD-4572-AC0C-36285B6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322-0116-44F5-9670-35B14914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70E-BF74-4F70-91FE-D955B4A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BE7-A46A-465D-8549-C1F0525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FF7-A192-4420-A40E-89BBC0899F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EF2-2C05-4E39-9599-0BB4C47C74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cc00"/>
                </a:solidFill>
                <a:latin typeface="Garamond"/>
              </a:rPr>
              <a:t>A Remnant Shall Retur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Quarter 8, Lesson 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Pages 80-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Verdana"/>
              </a:rPr>
              <a:t>Zechari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267080" cy="3156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181480" y="685800"/>
            <a:ext cx="282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mple Rebuil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3962520"/>
            <a:ext cx="2324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ebration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ssov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5638680"/>
            <a:ext cx="125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16 B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53080" y="54864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62485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5880" y="1676520"/>
            <a:ext cx="194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edo-Persi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eri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53080" y="2743200"/>
            <a:ext cx="11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rius 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2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uring Different Phases of the Return to th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Chronology of Persian Peri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yrus – 539-5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turn of Zerubbabel and Jeshua (Ezra 1-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ambyses -530-5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building at Jerusalem stopped (Ezra 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arius I – 522-48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Haggai and Zechariah prophesy (5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emple completed (516) (Ezra 5-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Greeks defeat Persians at Marathon (49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Xerxes -486-4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tory of Esther (Esther 1-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Garamond"/>
              </a:rPr>
              <a:t>Haggai and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Haggai rebuked and admoni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Zechariah encouraged and looked to brighter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Brighter days depend on needed changes of heart and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Zechariah encouraged with many Messianic prom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iders among the mirtles – 1:7-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EY REPORT PEACE AND RESTORATION OF JERUSA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our Horns and Four Smiths – 1:18-2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hough four horns scattered Israel, smiths or craftsmen will rebui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Man With The Measuring Line – 2:1-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How God will straighten things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Joshua tried and acquitted – 3:1-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Golden Lampstand and Two Olive Trees – 4:1-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storation of Light to Isra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wo anointed – Priest-King Comb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Flying Scroll – 5:1-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ndemning stealing and lying in the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Woman in the Ephah Basket – 5:5-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ickedness will be carried out of the L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e Four Chariots – 6:1-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ath and destruction to the north cou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mixture of hardship and protection to the land of Isra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limax of the Visions in the Crowning of Joshua – 6:9-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Outline of Zechariah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 Call to Repentance – 1:1-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ight Visions and their Meanings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:7 – 6: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Question of Fasting – 7:1 – 8:2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asting is useless without obed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ophecies Concerning The Nations and the Kingdom of God – 9:1 – 11: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The Temple is Finish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zra 5: 1 – 6: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espite many obstacles in the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arius researched and found that Cyrus had indeed granted the Jews permission to rebuild the te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temple is finished during the 6</a:t>
            </a:r>
            <a:r>
              <a:rPr b="0" lang="en-US" sz="2800" spc="-1" strike="noStrike" baseline="30000">
                <a:solidFill>
                  <a:srgbClr val="ffff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year of Darius’ re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Joy and dedication of the temple 6:16-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celebration of Passover – 6:19-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14:41Z</dcterms:created>
  <dc:creator>Terry W. Benton</dc:creator>
  <dc:description/>
  <dc:language>en-US</dc:language>
  <cp:lastModifiedBy>Frank D Vines</cp:lastModifiedBy>
  <dcterms:modified xsi:type="dcterms:W3CDTF">2006-02-17T03:23:04Z</dcterms:modified>
  <cp:revision>3</cp:revision>
  <dc:subject/>
  <dc:title>A Remnant Shall Return</dc:title>
</cp:coreProperties>
</file>